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1627-1084-4FA3-B9E3-FF07AD69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E158-F08E-4206-A26F-033501CA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84CF-C3FC-4A89-801C-29F61466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CBE1-2AEE-48C2-B82B-34021611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A338-1617-46AC-A34F-D7AEF8DB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AE48-EC11-41D9-A4D4-FA460C96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105E-64B2-402E-AA72-79C61C27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9B95-0549-49DB-A517-87741690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F14B-A397-4197-A757-F97543D9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960A-4982-42DF-BB99-21F5966D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C03C-8CA4-4811-B908-EC57F5E0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064-C3FC-400B-99E5-ACDD0853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A751-9A56-4438-A6BA-639A2C99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1E9C-8366-4D41-BA2B-5C97B70B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BA6B-4FA8-4911-A904-2188B6C9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B5E9-842D-4C55-AA2A-2E2281AA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E4C9-DD2A-4060-A55F-A678C48C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F6C71-E3CE-4253-BF15-935C45F1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020E1-830A-4389-96FF-A827A0C1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05DB-F398-4378-B44C-0F5C5AB3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78AB4-29FB-4996-8F71-00D624A2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81371-F064-4933-ACBD-412E06E1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4AD3-533E-4AD4-BA39-1FFD573C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D270A-D736-4329-B4F9-F11CAFCF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09048-EAB6-492B-8BFC-7FD5953D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2843B-6B13-4034-BC0A-1ECCE044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B2D1B-7FDD-4426-BB25-40F0A406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CA14F-BBBD-434E-83CB-DE4139CA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950C7-BA01-4F9C-B820-9B7FC274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AA321-01DC-44D1-90B5-1076DFC1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4AABD-7EF5-4A4F-A773-BC3A58D1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AB7BF-C426-42F3-94A4-F1598BA8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6058A-C043-420E-BE1C-0B9B6EB5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6A91-944D-478E-AEF9-923DD87E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01D83-C62E-4586-8FAE-2D72AA7E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7A6A4-61E4-4864-BCA1-B50B3261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3F4C3-2773-4861-8C0E-878826C2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C82D3-15DC-47B7-8C4C-D6EED14F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51824-3FA6-45B4-944B-620FCE4D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A8465-D764-462B-8D96-CBDA73B5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BE1DB-7374-4B33-A289-B1E3ADED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D910B-0693-4B82-8D00-A4525BD5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4C849-3845-4684-B41C-A6A3ADBC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28681-2595-4781-9A9D-33C39137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1B64-A718-4EC1-9CB0-3C25B00B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58B7A-F8BA-47A7-B727-ADD4E94F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8CA8F-A163-4856-A1D7-40FCB7AA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400BF-A756-4527-9C80-0BCF2C47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70C20-0027-4D13-92D7-BBBC4A40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16D93-9123-4438-80F2-57C86017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C778B-0F04-41A3-AF22-724AC062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8640A-B08E-41DC-A5BD-8656CC1B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6B95C-0E4A-434F-B689-2F22D39A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1F596-D9DB-45AB-87D7-19294459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DA345-6586-4BB9-9268-27E67823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A5E6-180D-4401-8E78-CA6F4201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71FCD-9957-403A-B1EF-88FF3008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A73DA-B123-4A58-87F8-9C75B17E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9751E-7EF0-401F-87CA-D1282039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28F85-43BF-45E8-8F19-E710B644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B911A-EFD0-45BF-94DE-0B926C79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7F913-A1BE-45D3-B152-502B6BEB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287E5-5768-4BA4-9137-F1EE963A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9C139-B0F5-4ADC-AC0D-0ECD8428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AD222-E4D9-473A-8CB7-18C2FA48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93499-C272-45F9-96CD-02C7247A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210-A5D0-469F-AA06-75A39CD4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D6BE6-92F0-48D7-B71E-91372262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3AEC2-59CD-44D6-BEE0-0F8BF090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6AAEB-CC88-44AE-8A77-F4A30C6A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DAFBA-2496-4E45-BE73-8B398DC7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7EB1F-C49F-4DCA-85E9-6537A03B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9FD75-11FD-4D64-9D96-E1E6DB69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E4253-8C8F-42A7-A9DE-5EBF937F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F095A-CD89-4F13-866C-D1B6CE7E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992F2-9FB1-47D5-9DB2-9179B8C6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9EC55-9052-41BE-99BE-8DE1F5AC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542-7E2D-4AB0-8970-51862467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80153-9043-4C07-888B-6DFF8B00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04CE0-1B38-439B-A250-5EAA84FC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CF0D3-91D3-4BB2-B71D-9BBACDA7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FBABA-39E8-424D-9AE4-F82630A5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CC8F8-C1BE-48D2-B230-D86DCEE6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5F8D5-B454-4AD6-9F49-EDE22366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AC16B-BC28-4525-A01C-98FC6089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6836F-61F6-40B3-803F-5B8E3048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B7E23-0616-4ED7-AC45-2150CD68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04423-B492-40C2-91F5-1324F23E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F952-2E8D-4A31-8ABC-DD7D37B9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0BB28-B208-4A52-B73F-709937CA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48A10-6154-4F17-929E-46061341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D5080-352A-4EC3-8562-EFDFF3C5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9389A-738F-4502-9A3E-4F9ADFA7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7D0B6-0795-42A0-877E-1DDA71B9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89CC4-4713-4C97-853E-16317970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9509A-C0D4-45A8-B146-8AD831D4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D2F6-1210-4CF6-8F20-AB042FC4D6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A728-9334-4112-8AA2-05E3D95E38D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059A-6D22-4876-AEA6-E5C0E3E286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833D-7037-442D-B082-70F9F9DA3C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545B-BB70-4C5C-95CA-33DC1CD74F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766D-093D-4627-8CC1-FB88899CD2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8B79-37AC-45D1-896C-63CD7887DB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1AD4-1B2C-4BF3-9FF0-9DFC669AC6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Выполнил: ученик 7 клас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Останин Александр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53352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спользование глиссирования, катамаранной конструкции, подводных крыльев позволили парусникам достичь скоростей, существенно превышающих скорость ветра.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Рисунок 3" descr="AAMWN41.jpg"/>
          <p:cNvPicPr/>
          <p:nvPr/>
        </p:nvPicPr>
        <p:blipFill>
          <a:blip r:embed="rId1"/>
          <a:stretch/>
        </p:blipFill>
        <p:spPr>
          <a:xfrm>
            <a:off x="1828800" y="152280"/>
            <a:ext cx="5448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ttp://dic.academic.ru/dic.nsf/enc3p/87114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5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ttp://www.chernomor.su/tech/catamaran-bistree-vetra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5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www.glossary.r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5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ru.wikipedia.or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5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5200" indent="-457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ЕТЕР - движение воздуха относительно земной поверхности, вызванное неравномерным распределением атмосферного давления и направленное от высокого давления к низкому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етер характеризуется скоростью и направлением.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еловек всегда совершенствовалс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днажды он решил догнать и даже перегнать ветер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дин из способов, который придумал человек, - это парусни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29528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арусник обгоняет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тер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 давних времен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елались попытк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величить скорость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арусных судов, но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течение тысячелетий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на оставалась ниже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и движущего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тра.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118908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4" descr="largef_10-img1b_0.jpg"/>
          <p:cNvPicPr/>
          <p:nvPr/>
        </p:nvPicPr>
        <p:blipFill>
          <a:blip r:embed="rId2"/>
          <a:stretch/>
        </p:blipFill>
        <p:spPr>
          <a:xfrm>
            <a:off x="4876920" y="198108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Lucida Sans Unicode"/>
              </a:rPr>
              <a:t>Ученые интуитивно полагали, что скорость ветра не является порогом для парусных судов. Практика буерного спорта показала, что при малом сопротивлении парусные наземные средства могут не только достигать, но и превышать скорость ветра.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30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лавный рычаг для резкого увеличения скорости — повышение гидродинамического качества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мплексное гидродинамическое качество судна может быть увеличено в результате повышения «вертикального качества» при неизменном значении водоизмещения - это возможно только за счет уменьшения сопротивления, а также за счет увеличения фактора остойчивости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6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ff00ff"/>
                </a:solidFill>
                <a:latin typeface="Lucida Sans Unicode"/>
              </a:rPr>
              <a:t>Глиссировани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 это движение по воде, при котором предмет удерживается на поверхности только за счет скоростного напора воды, то есть он скользит по водной глади;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ногокорпусные конструкци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дводные крылья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3" descr="JWAFN5CAP4WJ11CAJGTTHYCABOXW7ECAPYPQCVCA1N9BLECAXNSP5ICAGY1ZB6CAY7D4X7CA0TW3HTCA0E6S9TCA23DLAECAWJVS6VCAOAAG20CAZQ8FL7CAXQU7U0CABN0Z97CATSKMRUCAM1W86KCAQQ00Y6.jpg"/>
          <p:cNvPicPr/>
          <p:nvPr/>
        </p:nvPicPr>
        <p:blipFill>
          <a:blip r:embed="rId2"/>
          <a:stretch/>
        </p:blipFill>
        <p:spPr>
          <a:xfrm>
            <a:off x="6324480" y="3200400"/>
            <a:ext cx="21672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ногокорпусные конструкци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нижение высоты парусност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клон парусов или крыльев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менение подводных антикреновых крыльев и т. п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пособность судна противостоять внешним силам, вызывающим его крен или дифферент, и возвращаться в первоначальное положение равновесия после прекращения их действия.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6081</cp:lastModifiedBy>
  <dcterms:modified xsi:type="dcterms:W3CDTF">2010-05-22T04:31:48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